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218-7246-4153-BA52-64CEAA51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D64-E74C-44F8-A42C-2664129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BA6A0-904E-433C-AFEE-2654E628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F953A-27DB-4F39-A473-792DC85A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1F94D-AEB0-494E-B8C7-0CDCD0D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2DDC4-582A-446A-B5E7-77C2D7F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DCB00-FDFA-4401-9B96-A40883C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87DE6-9F6A-4FCD-ADE1-BC1EF17F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CD9A2-F470-4CF3-B25C-E042B72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6BAFA-74DB-4992-ACD4-C1D0FBD8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DFD96-0CFB-4F24-B719-09EEAE0E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8A459-E029-4F4E-B7D3-ABB32D58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DA8-8544-433B-A72B-2E5C4053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44782-9C88-4AE0-BFEC-8000CED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698F-A6FC-4D51-8F76-205999D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24289-96A0-409F-9AA7-6815F2A5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BDC2-2D43-4816-B4F4-53A52A28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8ECD-1A90-4B25-A614-A341A12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E660F-BC47-4BA4-99C8-EFCB814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76CB6-5F27-4B63-A70F-791C06A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38026-C7F6-47F8-9AB6-B6779F6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576FC-D40E-4BBB-9174-039155BB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9EB8F-F762-4388-9399-6121F6B8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B48-A9F2-4076-BFAC-3F40E19F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A44CC-6DD2-4C20-9DD1-7CF4C787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8101-9159-4D45-A31A-4ABA953F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F36E-FFE9-48F5-AFDB-872F828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58714-B695-4455-87C8-3951883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9090D-1AE7-4648-9A41-FCE4E501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30FF4-E0C0-474C-BCAD-9DBAF5DF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BE8D3-01A9-4269-A89B-1FCFC29F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7F0C9-A6C7-4EF9-8374-8D306BB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43E2D-D4EA-44A1-B46F-C5771F5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05F63-62AA-46B0-A486-B23699A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8B15-4953-42FC-B8A0-61905866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53D9-55D3-459F-8EF8-495E069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63419-87F9-4736-8D09-8E1652A2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9E5A1-10C2-4C57-9567-518CDA7C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9706-3967-4FDD-9269-16FBBE46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123C9-9D4D-4E51-B02E-A73C230D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06A1A-CCD8-4426-9EAB-C4F90479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F4607-AC50-4935-8678-BD281D72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5DCFF-58FF-441F-B1E6-04DBBAF5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47EC-2B0B-46E6-9EE3-CB9F9AFB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92C41-CE1B-44EC-8167-DD8CFB0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557F-F595-45F3-8D8E-1BDEB45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EE03F-A5C2-4C11-A977-DA2C48C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5A610-99C2-4214-A8A5-0DC34A2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F7CEA-4D2E-460C-82AB-E4B14CB0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BF46B-B323-475E-9136-027EA9AB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44360-E31D-4EE6-9A1A-BA45433A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3D31C-5C0A-4173-AAEB-CC37FBE4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C9ECE-74E4-4732-A24C-2F402F8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B4407-7795-44FA-AA25-CAF65CC5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0ADA5-859D-493F-8ABB-BCB33821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E76A5-7871-4D33-BC78-405A63DB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54D-6287-4E0D-98C4-1661DFE1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04204-0BA1-41E3-AE79-247D17F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6F7E2-AF34-4D85-914C-A06A5CA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2F693-1E4A-4BE4-939A-F97A5B7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1A5CA-CBCD-4F13-891A-C4CDC33D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8335F-ACCA-4B9C-89D7-ABA4A3E7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13CFF-63D5-4338-96D2-1F86C681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2CBB4-D34A-45E3-9E35-6FCEED7D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0CC91-7846-44E3-96CA-5C5041E5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96F13-4FEB-4943-A100-3E159F37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E0462-FDEA-4E6E-A6C9-45F5B469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A683-9CB6-4B93-88A4-189781A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13A27-1988-47E8-8E19-44569642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63543-D7A7-4156-B56E-3B425557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7E4F1-1BD4-43E0-9D86-67C52C4B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C31CC-E0FC-4680-AB33-4401811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25B9F-8933-4CEE-BA54-147AA4C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DA981-2BF8-45B9-9D50-40C96E4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52502-03AD-42CC-A66F-82F2573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3B726-631D-4452-981D-9DC742CE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55C3C-2CFC-41B9-95CA-081AC235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9E56C-DBFD-4F61-8505-5CD0964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2E6-8DA7-4C87-9013-129F720D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7EA68-CA0E-4130-91BE-99782C8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EC5B0-3EC9-4FA3-BF93-092D7DB0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A1618-DCE5-494A-986D-1A75934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F0FAB-E318-4B09-B6FB-7B8FDF5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76623-419A-4BE7-B6E0-C67915BB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66B0A-8EB9-4983-B01C-D85CEE4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B5A00-9833-4298-A10C-752C2B7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483E0-3400-4C7C-937C-25AB18F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99678-F522-4BED-BBEF-A1473827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1C150-F23D-4707-8506-3BFACD7D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DA37-E302-4F0A-BEC2-D6E66194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47173-E161-4D99-BC2F-01CF3E5C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EE605-3B52-4197-AB54-15531EEE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A6A46-EF2B-4CCF-99E1-C401E36E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CA238-4D8F-468E-89E5-82C2C377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4CF5C-892F-46AE-BE28-03D93CFA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465DC-EB12-44C3-BB3B-F1355555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4E050-D4FA-463C-8270-5D780A2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6BDA0-1AA3-454C-9C79-C8833F3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DA7C6-F429-485A-842C-DFC0530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91C5F-DBAC-4036-B4D7-59D77A5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F34A-76A6-41BE-BBA4-A0443259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5C735-37F3-440D-9110-093866F8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AEC3F-D8A4-4BC5-A6C4-F98BDDAE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9F647-D994-489F-988A-7723EFAA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7BEAC-0638-4AC1-B8A1-92056C28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ACD48-B23D-4217-B418-DAA36CBA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37D4A-857D-42B0-AACD-0B4C505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2A8C2-FB26-4B17-AF56-A8019441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4D9ED0-1123-428E-811F-644E4F7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785DE-F91E-45EF-9E65-31C19B39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0FC5A-7A53-4429-B3FF-04D13E28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552-05E2-49BA-B8D8-37BD472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EE26-D83B-484A-95D9-9A245435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709CC-21BF-4084-87FB-7EDF037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5A0A4-AA0F-48C2-849D-FF89848D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0CD46-1F04-4EAA-8A05-9835CAE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16079-31D4-43B1-8BAB-38829C65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461AD-7F74-42FF-9D1A-AA71BC8D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07087-37D0-4EA7-B38F-6BB716C8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BF314-5A4B-480F-AA6A-BD3E0BDE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E84D3-750C-429E-A6B2-E62D341F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DA985-9957-47B7-99AF-008F18E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E43B3-C56C-4BC5-BC20-BEC0723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EB72-3601-4166-AEFB-14CA218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4BC6F-D8D4-4245-B9F1-E2B07058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69378-2B0F-443E-9444-C3CFAC6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682B3-BD83-4177-9266-7F1A5CF7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E514A-45E1-49FC-BF6E-5D6A873E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33CDF-9817-44AD-8C35-362D2AB1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FD863-8A18-4472-A2DF-6360B09A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04768-691E-450A-BF31-4D7C8454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B2C47-AAFD-4B27-B91A-9077FC61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0F18E-CA99-46F0-9EE7-2E01D54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EC7B0-A742-484E-807D-DCC12623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E80-930A-496A-8962-75F72DB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96511-8A57-4BC4-9426-AA412BB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D50FA-08E0-4EB8-96F1-FCCCBCFF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CC9D6-D545-4A65-9EF8-2D24968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3736AE-8938-4A1E-9383-C145768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889AC-FE06-4E91-92B8-FF2403F6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BFF35-7102-4373-AA36-882660B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FF58E-7B23-4EBC-BA36-4D249800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1EB5B9-F71B-4D8F-85B1-29041F2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6944A-38D8-4F68-90A2-B241B412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38D20-EE62-4A21-9EEC-7E896BBA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274-1888-40F1-AD84-8D1F8B98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245CA-D6E6-4ED3-8FBD-D90AFD5C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CCF61-01BB-422D-A7D1-5F8CFCF3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AE87D-6E7D-481B-B732-3FE7E76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BF059-502F-4562-841B-50203632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F0FCE-233D-4856-BEE4-455BD9E0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BB4FE-39F2-4C94-BD46-86B7548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FA8E2-8B01-41A6-96E7-7D3A6FA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2EB8F-65F2-4F7B-A0BF-07FC1A1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7728F-4880-494A-8747-4AE2D41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2A4B71-9B6C-4806-9B9C-3FB1C357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79BA-D09B-4D3C-BBE2-578C6539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F48DE-F5EF-4D30-9FDA-72EA9DB7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380C2-6A17-412A-994F-BA471569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A0CDB-654B-41D1-BDC6-08483E3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79AD4-ADCE-4D2B-AA5D-BBA845F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9ABBC-79AD-4374-928E-8868181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7FD1F-E8DB-43F9-9B41-E48F5DD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65AD5-5617-4BFA-B93C-23768B54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5D5A1-25E2-4023-98D7-90D6AB9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2095D-D2DC-470F-BFB2-643A147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A6D8D-D728-4F90-AC47-E5D6451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0996-8661-4690-B2B6-D98E1A0C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500EC-7043-4392-B0EA-962E38B5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AB249-6FB7-4213-9AB6-652961FF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9956E-1B6C-4047-86E9-39BF1D30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1CAE-AA90-443F-8EC7-38FF5812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676A-4BB2-4945-B2D5-F55EDB16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F883-541E-4FC1-A9D4-014A021E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FB30-F670-4D38-B369-AFA68C3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8CA-5D07-440C-8D42-7881D757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C184-F6BD-46BF-95B3-FE0C8416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FB08-349D-4EF1-AFAE-4E5880B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E9EC-847F-49F1-9C94-E23E962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1EFE-3DE4-4606-898D-EF18DF73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13F1-F5EC-4A4E-812A-66A8A8C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D860-D830-4F05-88CF-3C59A9E2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5EBC-DEF1-4AF7-8B04-BE6F865D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2BF3-508E-4C5A-8C91-05B0C8DC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26E1-58DE-4561-8B15-D2F25CE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1478-B13D-4801-B44A-BED59742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58A-728D-47C2-A8AB-240D666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EB3E-5770-4549-926B-887B16AB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D2F5-DBBE-4813-AB44-B88680C6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9CD2-203A-4232-904D-D9960E95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A182-ADB2-4150-935D-90A2D966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31F4-9189-48F7-A013-490F011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6C50-5222-4E5F-8499-B406B86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147A-CFD9-4A55-BAE7-EBF93F0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94B0-58A4-4538-9A6B-D03C6709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B316D-D74E-4F64-AFA8-B3C2447E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2979-8A4A-4D1C-9C36-6F8640CF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24E-ED50-4D88-BDC4-D8214FC8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EE5A-904D-432E-B3A9-E73384CA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6EA0-614A-4338-8D7B-DFED90A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D333-981B-48EA-AEC6-14507659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7059-367E-47E7-BC8F-2060BFB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9426-3621-4EF7-B1C9-2DB97F0C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1479-C8AE-4928-B87A-7DEDA9F7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F268-718D-4C30-A06E-6CBCF87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6B4E8-FA2D-45D3-A42D-4465EBB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5DBC-3CFE-4A8A-81EE-2861DA96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B4E76-45D5-45AB-8071-F9D39C0F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815-C3D3-45AC-8244-206E1A3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23C0-F4ED-4FD0-A052-FEBACF9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3D990-1AA9-46DE-B4DC-E317E85C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C0C3-0649-4189-ACE4-C37FA101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725A-1D23-4B84-92DF-9C81BE54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02BC-5E55-400B-AE06-6D15C0E1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A4A4-89DB-4607-B347-F30BCB4E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B828A-F579-4399-9A26-2E6CA66A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CA31-13E7-43D4-BAC7-DB751E5C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2A9E-F156-446A-96F8-759BBC5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925F-AF7D-4076-88DC-CE88DE5A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612-020A-4C34-8E2D-1FF6942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A20B-5D27-4F53-8D00-6A90944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6821-D2BF-4F05-ABC9-F8D8A6C5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AA44-8FD2-4A1C-BDFD-984E6DA4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4066-B70C-40AB-9493-B6EB8C3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EB5D-2019-4D74-8515-9FF2B092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5BFD8-E40E-42D7-8EFD-9E7E054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C7A60-5049-467A-8355-4E11F988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A0F4-5CAF-4971-B8F0-D2F4A32D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B4A5-8161-4200-BC1B-FED812F5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C018-1AD5-4F75-A35C-9503833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786-C7D9-45B4-BDC3-D5E7183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E8C0-8071-4295-A6A7-3D60B66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EE7D-97F1-4782-9610-8CBC87BC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4A919-E5A8-4346-9630-D077B79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5BA5-C3A0-4EB5-AC91-44FD4C0C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35615-D0F0-4CE4-9930-10AA4013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2ACC6-AB88-42C6-A8EB-2F6199AB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8374-98B8-4FBB-B5F5-53480CA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CE31-23AC-4074-81D1-3645053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1559-9AB7-471E-91EA-961EBCFA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182CD-BAD9-41AB-8A47-66214AC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AAD-227B-4B36-8E3F-181C56E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4C30-2F90-464D-9BDE-063DF4B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D138-2F1D-43B1-B119-C35EC8C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F7B24-C521-4E4E-84E2-4FA9CDD8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F59E-EEBB-4C56-9CCF-D0EF8A6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AD4B-A851-4DD0-9EED-58430C1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F93A-EA99-4054-B43D-D851F9C4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4CA42-E2C0-4645-9D96-4C9B467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84A04-6192-43E4-9268-AA1FA8E5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31ED4-1E01-4CA0-A109-CB7080A3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44256-3FA4-45C8-8122-B08C73CE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8C4-2977-439C-AE93-2DF9AA78B8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69D-BFD9-47D2-8D68-07F67A40F4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637-48E7-4255-8AE8-4D65023C1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901B-E603-4C8C-A9AA-67D6D607F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211-C85D-4CCE-BEAC-CA8570702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341-997C-4325-B6AB-051107907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5A89-BD2F-4191-A3A2-CC37D419A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55C-5AA9-4EDC-872A-FE5663A99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818-8AF7-4A33-BF82-450123421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11B1-7EC7-489D-8689-66D11F6A10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475F-8F43-48B8-B141-C080A6182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A2E9-13CA-4EDE-BBB3-7124646EE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C35D-8C79-487D-8224-E488A2482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7313-52A8-4A0F-8210-445DF84BB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5327-8DD2-44D9-B249-1CC2F3254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40E-33D5-41E9-95C8-E6BAAA49D3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E70-32DC-4782-A520-0C2E08E65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25A-2E46-466F-8F89-BE938733F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2A96-8BC2-494F-81A0-BCCE4A8E1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471B-EAA0-4B15-ACA2-7B7C74FFBC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1893-A046-488F-BA49-51EA62338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3ACD-1BFF-4048-B4D8-018C932A0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5590-3D8F-40CA-921D-EAE8180142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BD49-78FE-4CB0-AA82-3B9F61CBB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AD59-39CA-4E22-AD8A-5EC2902EE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6F6E-BCEB-4371-9ECC-E4A8B36F3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A1D1-3769-4D4A-B0C1-76A472D71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D585-B74C-4C41-AA97-7DD15D0C3F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F26-E990-4232-ACA4-5EA9F06CD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4C1D-58E3-422B-B1A8-186CE1A35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F68-1BFA-4E11-8BAF-FED99E5C6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0999-7497-48C5-A2A5-BE97D5661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301-12F2-4B5E-A511-80E10FCDBA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712-F5AF-4117-891F-87BCC37FF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186-F96A-410E-AB74-2456A6EDA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FCE4-6F3E-4426-807B-56C60AC00C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42CA-A615-4BAD-8797-E612DEBC3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D6C3-5A21-4F05-922E-3491668E71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3C7C-B1FB-424B-9193-7203685FA2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427-E4D3-43EA-9FAD-2D41FC6FA9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28760" y="1816200"/>
            <a:ext cx="4686480" cy="1181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95280" y="3387600"/>
            <a:ext cx="65534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500040" y="939960"/>
            <a:ext cx="8143920" cy="5153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364000" y="256536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5292720" y="335772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5292720" y="407664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5219640" y="479736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1187280" y="5589720"/>
            <a:ext cx="59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52560" y="1147680"/>
            <a:ext cx="9038880" cy="4562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796000" y="3645000"/>
            <a:ext cx="21607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659640" y="442260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732720" y="515772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8229600" cy="4486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124000" y="2060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3492360" y="2852640"/>
            <a:ext cx="208764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859280" y="4408560"/>
            <a:ext cx="208764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1619280" y="5156280"/>
            <a:ext cx="5257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385920" y="1371600"/>
            <a:ext cx="8372160" cy="4114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588000" y="149868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124000" y="227664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547640" y="40622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1835280" y="494172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组合 57354"/>
          <p:cNvGrpSpPr/>
          <p:nvPr/>
        </p:nvGrpSpPr>
        <p:grpSpPr>
          <a:xfrm>
            <a:off x="34920" y="115920"/>
            <a:ext cx="9039240" cy="6700680"/>
            <a:chOff x="34920" y="115920"/>
            <a:chExt cx="9039240" cy="6700680"/>
          </a:xfrm>
        </p:grpSpPr>
        <p:pic>
          <p:nvPicPr>
            <p:cNvPr id="940" name="图片 57352" descr=""/>
            <p:cNvPicPr/>
            <p:nvPr/>
          </p:nvPicPr>
          <p:blipFill>
            <a:blip r:embed="rId1"/>
            <a:stretch/>
          </p:blipFill>
          <p:spPr>
            <a:xfrm>
              <a:off x="34920" y="115920"/>
              <a:ext cx="9039240" cy="53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图片 57353" descr=""/>
            <p:cNvPicPr/>
            <p:nvPr/>
          </p:nvPicPr>
          <p:blipFill>
            <a:blip r:embed="rId2"/>
            <a:stretch/>
          </p:blipFill>
          <p:spPr>
            <a:xfrm>
              <a:off x="711360" y="5445000"/>
              <a:ext cx="81817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81200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74072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7740720" y="4941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7696080" y="63388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195120" y="2000160"/>
            <a:ext cx="8753760" cy="2857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23400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673680" y="31989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2325600" y="41925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659640" y="417816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85680" y="752400"/>
            <a:ext cx="8972640" cy="535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771640" y="32558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556000" y="5516640"/>
            <a:ext cx="345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133200" y="746280"/>
            <a:ext cx="8877600" cy="6067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5867280" y="32130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2771640" y="472428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6084720" y="472428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2627280" y="6237360"/>
            <a:ext cx="230508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5796000" y="623736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142920" y="1152360"/>
            <a:ext cx="8858160" cy="455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4284720" y="28954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908000" y="36590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859280" y="4408560"/>
            <a:ext cx="25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1908000" y="5157720"/>
            <a:ext cx="187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9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